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111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ftr" idx="112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 type="sldNum" idx="113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533-7426-4A56-8BED-138067435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C97-9FA9-4C64-820F-797613994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52C4-76CD-4356-9EA6-25A410E59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343-97C8-400C-8229-BC8412FA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DA9-C525-4099-8399-64B7B86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02707-9E07-4EF4-8B8A-23BEB160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9AEBA-1C7B-44C4-A137-F8EE2EDE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D83A9-224D-4304-BFEF-2AD4728F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1EFB6-1856-49D1-82AF-E65D964D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C4642-1E4D-46A0-A30D-B9BFDBD2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FD108-DB96-4531-A4FD-4B801A94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4FCD9-591E-4F61-AEA1-0066FBC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18918C-A1FE-4FC8-B92C-0284B77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C0E92-F865-4E85-A2F8-4E479E98E3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74DA43-8B33-4FE0-B0E2-2351FB7C5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735-2ECB-490C-9EE6-68257170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69C9DB-E5B1-41F9-9F76-A01E0E6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58F731-E365-434E-9116-5AB62BF9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F6D172-7348-462E-920F-D1634C12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53456E-34B4-473C-B868-DA992128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B950CC-052D-4B38-BFEF-4C67E060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19F7D-C1BF-488B-8158-627D3C3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29168-7E6A-4EB3-82C2-09B5502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1C38A4-77FB-4BC2-A898-ADCC02F9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6D733E-C477-4DB1-9E80-B9B8F58B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D902C-A941-43BA-BCBB-6C0C1155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383-07CF-4AEF-8E18-8B92DBF8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CB7F5-DC10-4479-BA54-F949CED50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2827E-4A0B-4D0D-88D9-353A8EB6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B8D5E-1EE7-423C-83C3-80428DAA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E4979-102D-472E-A84E-5B78EFD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6290C-F043-438B-BA41-59C1727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C9A05-A2C7-407B-92D2-DFA3367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1AE79-7FF0-4DD1-BCDF-43B5B1C8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03D17-B588-4328-B2BA-9167B8E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8DA7F-2703-4255-9054-FCE65D3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5FF4B-C34C-45A6-AABF-37A0ADF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D2A4-7F00-420F-BF41-27D69539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E64C2-1AAF-49DC-AB49-EBCCBEA0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FDF2D-4E0C-4CD0-A3AA-BB08A1F9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24ED9-D8D3-4402-8109-EC06485B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EF51D-E62F-4328-A79F-67B72DC7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36DB4-12C4-4617-B08E-4850C6A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F87F0-DFF7-4B58-813A-ECFB6EF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92384-8195-4A65-A4BF-12DB3E92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67F55-DFB6-413A-BDA2-B63F99DC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06642-40F3-44C3-BBE0-8AB4A236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371A7-0AC6-4B9B-A1BB-1B026FB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F10A-120E-41DE-B62D-F48FB448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71B23-7EAA-4E49-9545-67ED6E4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105C1-7A30-4E25-9E19-5473E6B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85FC4-AAD5-4D37-ADA5-306DAFB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93583-5DEE-4E03-B57C-77831B0C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0EAF9-844E-4D8C-B0F1-D31F62EA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3063A3-7D2E-44B0-B4D9-BAAB00D0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BA9C3A-0652-4C1F-A427-46DB9A9E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B9EC2-2016-4A47-BB03-886014D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45F2DC-DC12-44B6-8571-266A2228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820CF-A239-473D-AE8C-6105CDA8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C987-E0C0-4F95-B7EC-5BCBFD66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0CEC08-4DCB-42C4-967E-8832CC17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B1EB12-6B46-4104-94EE-47C6BC23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DD466-8246-4D41-A60C-DF9E6FE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D6A5D4-A025-47CC-8B12-6DFDC024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8AFB14-583B-43AC-B40F-38FB1A3E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272B78-3234-4AFF-9362-F71DD805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2E16C6-F790-44ED-9D4E-CD2080A3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1F639-D14A-4009-A45B-9CC09A98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AC2C9-C118-4844-9BF5-BD922D0B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E93DB-0914-4D57-B029-BA1F82CB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B518-5964-4D4F-B75E-37A86E3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F9B88-0F12-4F34-BAE8-07AEC5DC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CA7B5-1F9F-42CF-B8A1-E9BE18CB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E335B-0B25-4576-9EBD-1ED49C82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13CF4-893D-4159-9EB9-B3BD0EC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78A0C-6464-420C-B7ED-01E25B7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8AC61-C550-4EB3-9BB5-C998A61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F5BD2-23E2-40CA-807A-601B1E3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2C3FD-31D0-42A7-9751-9136F45D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86F56-390C-4405-A0C2-8501902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D0C1B1-A5D3-4BF6-8856-593D0DFD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A068-3069-4086-BF15-E0748F80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B223E4-62EB-4523-BAE2-FB1DB8F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5DD2B4-F26D-4122-8ECD-BB965D5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5F56F5-664D-4FC7-BB76-F745CE1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1D9AF2-32F6-4285-B0B4-52953D70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236B72-7709-4E45-9C19-6315EFF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C6213F-2C78-477C-A23E-B113631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534FE9-3030-479A-A35D-F5D1FFD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8A3D8D-0F3D-4BE4-A32C-92C4BBF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257266-11F6-4943-8501-72C583BD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04C05E-28BB-4BC6-BC94-F40DEAAB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F7D-D13F-4B72-ABD8-2BCE2F99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157420-640A-47AC-8C0B-5634FE2D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4DE54B-093F-4623-ACE4-A9EDB189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67C2C8-BFFC-4360-BB6A-AE3ADE1E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DF2E45-06A3-434F-A281-D4B30DE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1861F8-E22B-4D7D-8CD4-E1B43FE8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272685-FCC1-49B7-AAA7-0A1F1C70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6E9495-3C5A-4C1B-9AF2-67D8E934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89D386-8B76-4FA0-B511-970886A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0E5A05-8D97-4115-9A1E-284F59F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BEFD6F-B8BC-43C6-8E29-DACB876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1B3B-E359-485F-B286-D15F7CD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C8D11-08DC-4E7E-B237-3D8FED85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AF899C-DAFD-40A1-9271-454414D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85CA8B-46F8-41B9-A435-BAB4E364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5B9C6B-1321-4DBE-8C9F-93B890AF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15C63F-D455-4F27-A53A-947449B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189DCB-5889-48EB-AFC6-8F38EB9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391116-F9B6-44B9-8719-5A8CFDB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3F7F72-BD93-4CF8-A6B8-921D9C7F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D5F1A6-4458-4E06-8B9D-67DF2D7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39B92C-7A7E-40C1-85EB-F8AEDC3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906-5B03-4184-9948-73731E27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B2E-1056-4F8B-8867-E2B1132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A8E9AF-EF9F-4342-930B-58E7302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F16785E-D476-4D5F-8448-671A29C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B0C845-77E4-4C17-910B-06027BF2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286975-C46C-4FEE-9A0C-512A038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B59ABE5-1750-4B65-80CC-9FA2A51E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2A2D9B-C950-4DA1-AEC9-596A15BD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1ABD3F-5C74-416A-8AE9-06936D9F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BE022E-B28F-455E-BB87-37E11AC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E34DAE-6819-41BD-B084-61365D9B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E17B30-555D-4659-BD54-DDC1656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497-93ED-4E35-A0D2-D3AB05A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6E0DDD-49C3-4EED-A434-1FB6BCB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6253AE7-6642-4E59-98DF-E7D1B737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3985FD-68D4-44CB-9241-55E7790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43E891-555A-4F42-8ADD-E70C870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FFD1E1-A879-4ED2-912D-CDE0CB6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DF6F4C-1CB7-48C7-800A-E50DE9E3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5957EB-7FD1-449E-9556-0D2856D1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4FFE92-0EF9-45FD-AF27-80E76EEC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47F080-F22A-44A0-B5C9-25457AA0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EF2858-5E45-454C-9E91-1A7FBEAF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144-E7C8-478D-AB38-12CA8D91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B6B03E-D4E7-490C-BA4B-C970EBDD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CCD086-EE34-4328-A1A7-D4803BF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981184-A813-42CD-A384-198C1485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E7E473-F3F5-498F-90DB-7C64DAA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AB3A93-79B7-4934-AF8F-E42D7F8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EACF48-7378-4CDE-99B7-F364595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11E16F-CAAF-43E6-B329-B8281D25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520836-C799-4D3F-BEBB-8426D9E9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4ACA24-6EAE-48F2-B883-A1AF111C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329D3-515E-4D66-AC40-91BBC1C626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7F71-38D2-4BFD-8F4B-4ADF225B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02187-EEBA-46E8-A57F-2572222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B31FD-C02F-4263-A911-9CD44CCC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05117-9D14-4E7E-8861-6356D227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C2C5A-BB7B-474E-BD6F-40E783A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5C47A-2524-4CA1-A15A-9B429C82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B1CE4-4644-4FFA-8338-4339B1C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12B5A-3FF9-49BB-B897-30C69E16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AE360-AF83-4B5D-9D8C-2ACAC9B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31C96-A097-4192-BF16-6B291D0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15FE6-FCFD-4D0D-83E3-822EAE5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1F5B-9ABD-4FDF-990A-4BFBA61F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D2228-7860-4C19-A2B4-AE31FBD616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934713-B29C-4757-B276-17C975F23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EB4D63-BE8C-4B07-8F85-A61794B8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8B4BA0-BBAB-4DD6-B1D7-3B86793D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CA550E-C44B-49D2-AAF2-EBA48B4A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B4D1AE-3DC8-4CD8-86B5-15EFB575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07E7BA-FD5C-4812-A7D2-80A14AAA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37020F-69DB-4155-BFA9-4F87BA4A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BC69FC-3C0D-4D0B-BCF8-DB5C4AA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930CE7-5EE0-40BE-BD60-2D49EAFA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8E152-89BB-4B89-A25E-EDB0EA31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9997B5-0E1C-4F2A-AC01-3954E0F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A6D8AEB-8B4C-4289-A94C-A3B2705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623116-02D7-4035-8D43-505A36347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6E957D-D87D-4A29-9523-0D6FFFB5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B9553D-0460-48AE-BE92-BDB55EE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A28BC71-C0B8-44D1-8837-EE41F52F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7646D5-C58C-4F2F-8EB4-10F700FF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C5286F-AE44-45C0-B99D-3A70DB8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393C214-8E34-4B34-801D-C490376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4D2521-4F5B-4467-94D4-5A8C389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D042-6915-4A0F-827F-E0A7DA4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1F6355-BED4-4589-A8AA-1B8D095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626C42-7612-47E9-A61E-09241C2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93F901-E181-45FE-BC63-DD1AEB49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04898D-6033-4744-95EF-97DD2716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574791-E729-4E2F-A5FE-60515F5F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1B03D1-774A-4A6A-AB65-A157A310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9BB8120-7C69-4258-A056-A71E425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CC6E9A-8B0A-40D0-B9FD-EDAAC0ED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E7BC19-6428-4D37-9EA3-B5201B4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DCE675-9AEF-46B6-A827-5B777C5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47431-3A96-4E17-B907-7D1E1B75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2DB541-D670-4B40-9311-2B4C2C73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61C106-D64B-4A8D-9AA4-83A7810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5E4E1A-7C8F-4E6A-9D85-D00B4E1F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C28BB2-B233-4619-A790-DB6E6DE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DCC9C3-F0DD-43A9-B102-14462DE7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863D57-CD60-4E82-B9AC-1EDBD015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37982D-8432-4A79-BE45-4E7D04F3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112A8C-CD7F-43E2-BC14-23A106B3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EB3ACB-34EC-4650-BD5F-5BA3776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D27490B-BA13-486B-8F44-C0A7FE2E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C4B5-1F72-4B1D-B544-03D682D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49A59B-3238-48A3-A0F0-D9F8F54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BD55D2-685B-47FC-BC30-02802F0C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F07C3F-22AF-45A8-866F-51B2E30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857EEA-18EE-46FB-8509-2D61FF1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408346D-5E2C-419A-8785-3D6484F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B7C0CE-5E78-488E-B5B9-0919DC5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B51B236-3D77-4DFF-AD79-6E88B681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52B11B-0588-4CE9-8FB2-47FBA291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46C0C8-0A41-4BA7-B272-DEBAB1F3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1E9A8C-6BBE-4F61-83E1-9C6A5ABB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7C86-CD0D-4DE7-985C-2ABEF7A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BE86C0-2BC1-45C6-B78F-2C6A2FCD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26BBBD3-D039-4D82-8865-77FC30A4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972DE37-FDA0-47BB-B6BA-8AC4BF44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C6F713-9B1E-4546-9773-E222CBA6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33D0A4-BA5D-43B9-95B4-51335B4F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E941BC5-FF37-4E1C-B7FA-F41DA9D2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E7F3A53-445A-4918-BC60-AC47D05D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4D280F-6C65-43C4-AFCD-98556784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DE5A96-B840-48DC-918B-02DE104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04F4F8-0712-4045-A384-BD77ED0F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3BA-279E-46D6-B96A-0383AAEC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BE46-106D-41E0-9BBB-71ED74F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1BAB1B8-507F-43E8-BE0E-49A8D476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2005A63-46B6-411B-A677-C12FD69F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C5F883-CB5F-4A15-A23E-E439A8E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6599DB-637C-44DE-97BC-E660F594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B08E6F-CB12-4EFD-824A-3FE41041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507D8BC-7E47-4DC7-935D-0BD4E31B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6A9091-4BEA-497D-BA3D-415FEF2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83703F3-01B4-4DB9-9450-727F592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E02BBFF-0F18-4DA3-9E3F-35D64EE3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B93DC51-71D7-439D-9F65-2987D1B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C372-DC42-4115-805B-80E7469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6769BD-DC39-458F-A41F-6C2EB052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194ABDE-B314-49EC-9543-8C606D31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D01AF6-84BB-49DE-ACE7-9BCEDAA0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2EED7F-D737-45D9-B109-3EDD4317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0B011A-F3A6-43D6-9DB7-06050CF5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0BFEFF4-0AD6-43A5-AD6D-E6CEE87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DABAAA-CFE9-483F-8229-D6A5122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F42DFA-93F3-4ECC-86D1-0DF6696F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57F3120-5D1F-4125-8158-C8EE963F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B0DAF73-BD6D-4873-898D-C6F4F48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DCB9-8B72-4CD3-94A3-CCA84456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FBE02E5-D8F6-4EAD-AD1A-88A8985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59FFC64-BC1A-4C03-AB12-095B577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10CB6D-ECF0-49E1-9ECC-E8C0849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6E0980-26E6-4B22-B4D9-251AD9E9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D65A2D4-6F95-4856-92CA-E7225A1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F30001-4906-4E18-AF3D-06249A07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8B8BCD-659B-4680-BBA2-F85EF92D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5E327AA-0B12-4016-AD14-B270F085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E4A34A1-3C06-493C-8460-B4DA641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AC44DF-919B-4C00-B4C6-2456BEE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2C1C-F6BA-4F10-A610-93814F9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FD066F-6C91-4B93-8560-D09D533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D20003-99B6-4DD6-AD7D-C7519E4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9B1F22-A00D-40AB-B10D-E04574D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B3A8496-FE00-4E4A-AA9F-6A8A194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69A4C3-A171-4105-A9A7-B69E980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55A465-F7E1-45CD-A938-1F24D08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6FADB1-82CC-46EF-9E30-97E62426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A70EFD1-BB2A-4AE1-8EAD-7CF70F7D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6AA163D-8B1B-486B-AF5A-0992205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051A5E3-ADF8-40C0-AB40-2CCF031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1B0F-3073-47B3-AD07-2410020D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9D35713-AACB-435F-A78F-F2E1AF5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406703-7C38-412F-B900-2E0C5A4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69FF8BC-CB0F-411A-AFAE-AF597E3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362189-B33D-45CB-B992-62ACF9AD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38DA7A-C6CA-4FF4-9EAB-1BF8701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94434C-6516-4C03-82BF-D23A20B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F2DA0B-E2F8-41FE-9287-F8C31F8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7DBE9EC-3D80-4936-96F8-9E4B5E2A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4BC7EBF-5077-490A-8340-D9F753B6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25B2CAB-790B-4785-9783-4A80401F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7592-2A05-4D65-8C02-8782A6BA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03C5A4-8FDA-41FC-B7A0-04BE2FC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6554A1-DDD7-4CF6-ACED-C940123B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A72137-BD09-4E03-96F0-6496B1CD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086E4C2-3D5F-4449-885B-CAAFB3B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484606-6428-4E67-9664-9265C913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93FA78-3D60-41F1-B1D0-E19973F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BA38718-D124-45C4-8A47-CAA66E7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EA53EF-3DA6-45FF-91D2-D1A758B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CFA248-1345-4168-926E-45FD0A7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BA1ADF6-D7A4-4A1C-8BCC-1B981549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0687-F6B2-4838-8A93-8EF5FE13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7F1959-509B-4725-AE32-DEEF2D43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2CDF24A-0639-4CB3-BB30-84C885E5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524C8C-7FD3-4527-87D3-439FF76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CB7BF53-F835-4E92-9936-716F595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676922-BE94-4664-B985-8CBFE22B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D04183-3E8F-45C7-8CE0-3D9ABDA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3762C2-546A-4F21-8A49-3D2B778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7F26A1-A966-421F-9C28-622A1B6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6C303D5-C0E6-48F3-999E-5DBA748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85C674D-3D87-4412-A292-B115BBA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C53E-A00E-45DD-8835-BCE920C7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CF4080B-87DC-4B2D-A49F-9EAE38C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27E2957-8E5B-43B4-A99A-92AAD08A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494CD09-597C-4C95-BC4E-AAC05077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B073B7-4ABC-463E-9E8B-93DAAEFA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E6D3CC6-581A-4F2F-87AA-CCA393C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F867F0-816F-4D03-AAD9-FF0FAC9E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4145DFF-4102-4115-BFF1-343DA413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4B18DE1-5ADA-4BA3-9662-5519D77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DBD7D8C-713C-42C8-92B3-FE9B9CAA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510192-043A-4EA4-88B8-0225B54F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B2F6-9A3A-487B-AC28-D5E2A27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B8BAFB4-89BB-4095-8B8D-D59949E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C0E72B5-6F12-4C28-9573-27D9B1BE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B26AD04-7530-4FB8-A2ED-B476511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5C8A95-CB55-44A9-BE70-A8A19B7B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79EE047-7651-4E30-8171-76B097FC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C95C3C7-4F65-4DC6-8A3A-87971C9A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5DE2612-6951-4E87-A9C7-864BFF7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A199586-61D0-4A3A-9E9C-A94040BA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6D5CEE3-FC6D-426A-BCFF-6834EDBF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A6BB3A3-BB06-4898-9C9C-6DA331A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8043-D093-43AF-A287-FD06C7D0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1922748-D1A5-475E-99C4-4AB76EB6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0B38423-6E27-4886-8778-0FC08074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9DBF9CF-C983-4A00-B7DC-06369A8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84CA196-D718-4944-AD73-F1360878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449053-249A-4D5B-8C02-E330C9AE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432EF4-630C-48B1-A5C8-640C3515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180AB01-3EC3-4AB7-9D13-AC131D25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D0B258F-C893-4087-A47C-5B2990CB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859F01-5652-4EC9-AEEB-F33FBA6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FE2B2B4-FC97-4150-83F1-269552FD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68F-BA9D-4A20-A4B4-17EE4DA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A1C5-C3A5-41CF-8A44-9411BEB7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948D1D-07D9-48C3-B58B-F8A2E09D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85B614-E16A-41C5-8296-CA7D82A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C19D6C-BD53-4756-BC07-F3AE3E75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38D1E1-AA6A-4F70-BCE1-319702E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20AF24-5D46-4560-9863-9CB51EB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A8ADB1C-F6F2-4F0B-AE6B-6C394C6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461F61-23D8-4D9F-93C1-4A797889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63376CB-C5DD-49F5-A812-874EED7D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0CE113-371A-4347-83C7-65B9C2A3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C98858B-D7ED-47B0-9603-6BFB5EA0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C061-32EE-4713-8E4F-561120F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53BA09D-4D75-410B-AA34-065F3030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1E8667D-9A24-4AEF-9F51-3065C90D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542D59E-C821-407E-8A94-13883414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4B3A28B-163E-4046-9114-8A4A5BD3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E8F5FB9-5958-49A5-B265-0F6B9BC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888D86B-3F5C-45FB-AA92-D854B80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F875A1B-418E-4DAA-9F24-A47D17D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4BB29AF-A0E6-47C0-B3F3-E7C0531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41BF18C-BB09-4184-800C-85B0C17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051B1D5-64CC-4C38-A8EA-94495095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B458F-E202-49CD-9EE9-E6ECB43D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7D8C2BC-0D26-4169-A314-7DE15936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E6F8B45-27F9-426F-AC84-014AD34B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AE63309-E7F5-445E-9DCA-5FF8D6F0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971608-B525-4EC2-A492-776C07C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C27F02-CC16-4581-85B2-BF74557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A06AE4A-BB83-411D-97A2-1A3E3A90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F3B8CAD-495B-40F5-87DC-80B5E6F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A769AA6-08BF-475B-AFD1-7922199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FCD84BA-D3C3-44BD-8173-0CC350A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4C68729-DB92-45C0-91D3-6E53E22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A30F-8D6C-49C9-8D1B-37C7607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539DAE-5B88-4000-9786-035B3BA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0361819-2959-4354-BE8D-5A5CF518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39CC7F-1127-4C86-B7A5-D1F3EC78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2300BF4-5EF7-430C-B131-A9E49D4D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C2210B0-99CB-48FD-8DB1-44BDF3CC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AC86A3C-6E63-4208-B713-3F74494F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2E89702-AA5D-40C7-9B85-7E93706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830E1AB-32ED-4317-9447-8BFA3C54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D0C1451-F398-4D6E-ADF9-D4C72A19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CE2BEF4-F751-45A1-BDE2-318F329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7DD9-C267-4DFA-A427-E202E80D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D5C8268-F3C2-4BF0-8A3E-154F3EEA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172F438-B88E-4AA4-BC28-0854566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D6C6FB5-3B13-4538-B15C-D8C504F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44650C3-9D77-4EC5-A84E-CFDD4B78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790E051-35A0-471F-AA0F-B4A5FCFE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4CD1F7-A856-4471-9709-5D4188F4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46E836B-4B27-4E12-8253-A34E1B6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357C375-3932-4C14-8395-DEEC73D5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FD116C-2E49-4EA7-BA9B-74016E5A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289A062-D128-4642-807A-00B7AD66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025F-0039-4635-9B2D-970C58D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BC8E1E-21CC-4CEF-870F-293703CF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89DB40-A06F-4F11-9479-5AEB23CF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397B7F7-3E1E-4F57-83FD-CE01E15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B564F9B-4128-4BD7-B315-E9F0F9B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0902532-75CD-4293-9ED7-8F750108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76DB06-5176-4982-88FD-4E4A1518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9FCC724-7594-42E7-952E-D054B8F8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4C2407F-F659-4F91-9BB7-5CEBCC67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1A19450-3321-426F-BBE4-D14C047D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AAAB7C-F269-422F-83FD-75CB73A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0AC3-6CA8-4135-9270-4C873F09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66306B1-3F69-4757-A97D-5195ACE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F6A533B-E153-4F13-8913-5C2A76E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3A1A89-1EC0-45E1-918B-E1D98836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725FD9B-1876-4738-B03C-FF19F12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F87ECAC-3BEF-4219-ADE8-3D12EB8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B63FED1-C98E-47CF-AF57-DBCB567A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B198BCF-4C04-4476-8EC4-1E43F2C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EDBA17-839B-43EB-BF1C-93F5C76E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D443DB8-77E0-48A5-A1D4-90854E6A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2BA6293-6E49-4159-9F8B-7E54107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1EA5-D096-4EA3-9F2C-6F81413F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92809C5-BFE2-4608-9BE1-C7F41A51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DCA6B1B-ED95-4D7B-AFBC-729F539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6481B16-A3D2-4888-95A8-84C96DF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C84FA73-876C-4AD1-B53F-15E1EBD4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C30FD2E-D996-4DA6-BD91-7337EB2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890336F-88B0-42FF-ACD4-6769235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747A8A-0F2D-41BE-A07B-C624B7B2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580E1A8-3126-429D-B618-385858E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9B15E00-D77C-4EED-A8F3-ADC8F833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592368C-57FE-4308-9B7F-0EAD35C7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16F5C-65E4-4736-9E78-8994844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B78DC6-53BF-4EA1-88C0-A4123229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F66-3958-4A53-B481-8807877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C1D-4C5F-4C9A-89EC-CAFD4209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FC7-70F8-47D8-A811-59C398C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3CBC0-9C7E-4B50-A21C-25092BF8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C2A7-53A8-428C-91A4-C188E3D9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955C-11B5-4B9A-A9E5-7457CC0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6F30-60A5-4463-8C22-C32759F0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517B-5D5F-404A-81C3-7D4D1BDF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71B5-41F1-484B-8D4D-3231645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7C45-CD36-4EE7-9876-CFB1D41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D0A-743F-44E6-8C00-3D85E56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6366-B41A-400A-9C38-54BF7B1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9FDF-5EE8-453F-A4DA-26037E4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6B35-2A1B-4B9A-A785-B91C9AC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E654-D77A-488A-A27C-E4DE8F1E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EBC7-AB4E-420F-8395-3599B02E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FD20-820F-4B63-B8D5-FBBCBB16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9898-7245-4AA5-860F-5CEDAA34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65D3-22BE-4A23-95F3-8696F399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AFE71-CBC3-4766-9942-579335BF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C4A3-ADBA-4443-B34B-051BBAF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498-53EA-4CCE-9951-B43A81F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E368-3F0C-43CB-AB08-FF190B08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B6219-1F64-4FD6-9144-3B35B57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A22E-EA1A-4D1F-BA3F-2C928A7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49B5-2FA1-4B83-8B02-C649167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267B-4CC2-48A9-85B2-87D9277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5E55-F43D-4424-8687-B02ADDBE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D0C9F-44CC-4449-9F93-CFD865BB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F86DA2-5048-4918-BD21-BBD7C16DC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15FAC-1ADE-4E49-A552-F3A1A5CC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07233-5145-4CAE-B922-BA955964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Federation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1" marL="103680" indent="-3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2" marL="159840" indent="-3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3" marL="223920" indent="-31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4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5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6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8644-EBF1-41B8-8177-3CE0C1B0FC85}" type="slidenum"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358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F984-E251-48B2-9BDA-F6EE863E8EF3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BFC9-9766-4A53-9385-14159EA8078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B736-8EC4-4F71-97B6-40EA19615590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0F8A-55CA-4FE2-9555-515403D5C8DB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899-9EDF-4365-AED3-AE84111E5C4D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DB5-669F-4E4E-A204-CA693772B898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8E9A-556B-45D9-B5E5-FF77023D6E00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282-2BB6-4DA6-A24D-5FAF54CE145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CF0-BC6D-4DBD-AC0B-FC714CCC9A73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B93-A70E-4B2D-84A2-32B7320012F8}" type="slidenum">
              <a:rPr b="0" lang="en-MY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3E3-CBBB-4C1B-A94E-A7A22629BC92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ktangel 2"/>
          <p:cNvSpPr/>
          <p:nvPr/>
        </p:nvSpPr>
        <p:spPr>
          <a:xfrm>
            <a:off x="0" y="795240"/>
            <a:ext cx="9144000" cy="1230480"/>
          </a:xfrm>
          <a:prstGeom prst="rect">
            <a:avLst/>
          </a:prstGeom>
          <a:gradFill rotWithShape="0">
            <a:gsLst>
              <a:gs pos="0">
                <a:srgbClr val="7dc8d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Billede 3" descr="dreamstime_Handsoverlapping.jpg"/>
          <p:cNvPicPr/>
          <p:nvPr/>
        </p:nvPicPr>
        <p:blipFill>
          <a:blip r:embed="rId2"/>
          <a:stretch/>
        </p:blipFill>
        <p:spPr>
          <a:xfrm>
            <a:off x="7253280" y="785880"/>
            <a:ext cx="1890720" cy="12272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foot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790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foot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BED-2CE1-406D-B2C2-9A0DC87F41A1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C4D8-0231-4A74-8682-448BAEC76270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6536-B965-4EF6-B287-C99F8D3CB537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166-2EA0-42EB-A60F-A6B326023143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599E-DBE8-4B96-BC3F-6335B9F2FC37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418-B6B8-4B6F-A571-7F54D20DBDE2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E15D-4EFF-43FA-8387-EEA6B8D154BF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C0E-1723-48CA-A9E0-3BBEAA4CFDE9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2FF-B430-4E83-BEE4-A61AC866B33E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3DE-5AB0-440D-B62F-2D96163FEBBC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CEA-D057-4251-8A2A-6ED7369619CB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2B1D-1E15-4FF2-967F-E4E393F593BD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8524-F7AC-4DE4-9631-32ECAFEFD2DC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0257-8688-42E2-B7FE-8359CD20A3B8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A81-4DAD-4C54-9395-868E7FC386B2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FFB2-9DA6-462F-AB2E-4AADCE3EB179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2A4-9256-406D-A564-16B81D137EA0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1" descr="WhitebackPPTCover4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A7E5-D39B-45FA-858E-9C4F99BD9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700-AFB9-4E93-B7FF-F8B5BC21DBF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79DF-20D4-480E-8BD4-B7D573235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8F90-56FE-448C-8308-C82348354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90A5-812A-478E-A162-A666D3C8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774-2A23-44E6-B7CF-6A8915AD0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4A35-7C09-4923-9D4A-9CB8BC05A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13BD-92AA-4EFC-9629-4B8EC47C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6335-AE7B-4ABD-93D5-F85F4436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1AE2-D92D-44C3-B357-ECFB57F6C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BF1B-F1F5-4BEC-992C-29EECD3DFBC8}" type="slidenum">
              <a:rPr b="0" lang="en-M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2689-25FC-47F0-B654-15248627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F5D-4E4B-4F67-B9EF-3067D66F1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734-58EC-4536-BAAE-7C2929D586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Gruppe 16" descr=""/>
          <p:cNvPicPr/>
          <p:nvPr/>
        </p:nvPicPr>
        <p:blipFill>
          <a:blip r:embed="rId2"/>
          <a:stretch/>
        </p:blipFill>
        <p:spPr>
          <a:xfrm>
            <a:off x="-60480" y="762120"/>
            <a:ext cx="9264960" cy="13586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F40D-6DA9-48D6-B6D2-A927EC8B29FE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hyperlink" Target="https://mxweb3.media-x.com/home/ncval/demo/" TargetMode="External"/><Relationship Id="rId3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cap="rnd" w="34920">
            <a:solidFill>
              <a:srgbClr val="0000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orth Carolina Teacher Evaluation  Onlin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tie Count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we begin, please go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880" y="1295280"/>
            <a:ext cx="83822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entation and the ticket-out-the-door can be found under “Even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https://mxweb3.media-x.com/home/ncval/demo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Our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come, introductions, agenda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your Experienc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from McR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-Rater 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 and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8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5181480" y="2819520"/>
            <a:ext cx="344484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06:07Z</dcterms:created>
  <dc:creator>jgardner</dc:creator>
  <dc:description/>
  <dc:language>en-US</dc:language>
  <cp:lastModifiedBy>eedwards</cp:lastModifiedBy>
  <dcterms:modified xsi:type="dcterms:W3CDTF">2011-10-31T17:22:45Z</dcterms:modified>
  <cp:revision>87</cp:revision>
  <dc:subject/>
  <dc:title>RESA Implementation Sessions Day 2 Process</dc:title>
</cp:coreProperties>
</file>